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0822-B004-4123-BDA3-DD9040D2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E3C-961B-4DDC-AF69-87DE103E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F91-046E-48E5-B9FE-25EE7A18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EDE-7A33-4868-ACE6-E2D0A3C6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9DB-51A0-4A98-A672-B7C7B471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4E3-4BD5-4E50-A243-BC4CCCDC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838-1BD1-4AFE-912D-ABDAB05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2A1-24D0-462D-91CE-9F99B3B8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E22-16D4-431E-8F09-67FA712D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5E6-8EB0-4557-BE8F-9E3ACDCE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FAA-5DAC-4405-B7E7-BEFCEC2E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418-1D41-469B-BDF9-B010765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403-374B-4B00-80FE-02CE98F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F30-F02E-4709-ABF6-D20F139E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0F4-1740-4119-8C51-C51819E5C84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ù est-ce qu’on place le ‘ne’ et ‘pas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ound avoi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ites la conjugaison complète d’avoi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’ai, tu as, il a, elle a, nous avons, vous avez, ils ont, elles on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ils ont jou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y play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nous avons regard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watch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tu as fin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finish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j’ai perdu le je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lost the gam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l’équipe a gagné le championna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am won the championship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7524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I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4479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 traduc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r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r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boar2155.wav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 forma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e verbe ‘comprendre’ est régulier (V/F) et le p.p. est…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rregular: com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e verbe choisir est régulier (V/F) et le p.p. est…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gular: chois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v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d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d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prend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rend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1337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bien de verbes forment le passé composé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3520" y="19810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écr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écr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cr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pou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ou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p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19810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a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e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êt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êt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t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fa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fa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ux (2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09480" y="173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voul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oul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voul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17524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apprend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28600" y="2133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pprend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ap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1371600"/>
            <a:ext cx="7848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 u="sng">
                <a:solidFill>
                  <a:srgbClr val="ff9933"/>
                </a:solidFill>
                <a:uFillTx/>
                <a:latin typeface="Times New Roman"/>
              </a:rPr>
              <a:t>Trouvez les verbes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9933"/>
                </a:solidFill>
                <a:latin typeface="Times New Roman"/>
              </a:rPr>
              <a:t>J’ai eu un match de hockey.  Ma mère a vu le jeu.  Elle a appris les règles du jeu.  J’ai été le meilleur joueur.  Mon équipe a joué bien.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 eu, a vu, a appris, ai été, a jou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s sont les noms des deux parties du passé composé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’auxiliare et le participe pass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verbe est l’auxilia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voi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HWDSB</cp:lastModifiedBy>
  <dcterms:modified xsi:type="dcterms:W3CDTF">2011-12-01T12:40:20Z</dcterms:modified>
  <cp:revision>28</cp:revision>
  <dc:subject/>
  <dc:title>No Slide Title</dc:title>
</cp:coreProperties>
</file>